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962-4685-4C47-A7F5-FF607439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067-7680-4D3E-BE73-CD1A91C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03A-F96D-41AA-98B5-60F326F7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069-9141-4679-8210-9FE3221B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002E-E8F2-4BB2-82F8-C7E03877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8B88-FF36-46DC-84B5-753A8AC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552-2FCE-4111-83AF-0AC14DEE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995-7390-4926-BF09-863D2374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6DDA-ABD1-4CA4-A549-99FCDB0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D5CE-32E3-4DAF-BE81-8A6B45F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FA9D-5930-428E-8E83-3BEA78D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9CC-9FF1-4DB6-BB2F-6B59E6B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32DE-6A8A-420F-AD74-C9411A0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A618-D781-48D3-B6F6-59B78E5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8611-1671-49B7-B6CE-A283F2A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5B3A-A40C-411A-AAEA-07F5DD0C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B2D7-773F-41FC-8680-6F32C4FF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9AE-C346-4E3E-826B-26F43D6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E29-ADEC-4F65-A4B1-9913F45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08B-1F7B-4E45-AA45-1194960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C6E-3704-4AA5-8B3E-7E7CABD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3BB-40BB-4CE2-9937-14FAE4D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7F4-E093-42F7-B003-772B789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D9B-60A8-4394-B30F-4449356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ABA4-ABD1-43F8-B5EA-889A5A600FE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1C90-0159-4736-A60F-A3BD06260E6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zps.ru/articles/cmmn/cmmn82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Human_brain_NIH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висит ли поведение человека от особенностей нервной систем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ыполнила: Димитрова Ирина 234 групп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спин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положен в позвоночном кан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меет вид тя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ащищен мягкой, мозговой и паутинной оболочка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 центре расположено серое вещество, снаружи- бело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900760" y="1676520"/>
          <a:ext cx="1657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1676520"/>
                    <a:ext cx="1657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Периферическая нервная систем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Включает симпатическую и парасимпа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егулирует работу внутренних органов и обмен вещест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еагирует на стресс, отвечает за пульс, давление, чувство волнения и выработку адренал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049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т особенностей нервной системы зависит поведение человека. Выделяют 4 типа нервной систем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безудержный тип, соответствующий холерическому темпераменту, с сильными процессами возбуждения и торможения, но неуравновешенный, с преобладанием возбуждения над торможени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живой тип, соответствующий сангвиническому темпераменту, с сильными нервными процессами, уравновешенный, с хорошей подвижностью, т. е. быстрой сменой возбуждения на торможение и торможения на возбуждени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ильный спокойный тип, соответствующий флегматичному темпераменту, отличается сильными уравновешенными процессами возбуждения и торможения, но малой их подвижностью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слабый тип, соответствующий меланхолическому темпераменту, со слабыми нервными процессами как возбуждения, так и торможения, с низкой работоспособностью клеток коры головного мозг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5280" y="1598760"/>
            <a:ext cx="655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рвные болезни - заболевания нервной системы, которые могут быть обусловлены органическими (сосудистыми, травматическими, токсическими и пр.) или функциональными (невротическими) расстройств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исхождение нервных болезней также может быть связано и с генетическими (наследственными) факторами. Проявляются симптомами выпадения (параличи, утрата чувствительности), раздражения (боли и пр.) и нарушения интегративной функции нервной системы, когда могут преобладать расстройства псих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ври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олезнь Паркинс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враст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пилепс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Альцгейме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762120"/>
            <a:ext cx="716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заключении можно сказать, что нервная система, является, несомненно, самой сложной из всех систем органов и выполняет ряд сложных функций в организме. Анатомически она состоит из центральной нервной системы (ЦНС) и периферической нервной системы (ПНС). Нервная система влияет на поведение человека, а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ипы высшей нервной деятельности являются основой будущего характ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пин М.Р., Никитюк Д.Б. Анатомия человека. - В 3 томах. - М. - 1998. - Т.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злов В. И., Цехмистренко Т. А. Анатомия нервной системы. – М. – 200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zps.ru/articles/cmmn/cmmn82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Сформировать представление о строении нервной клетки, об особенностях нервной системы человека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297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Найти и выучить основные термин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Определить основные функции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Изучить отделы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асскрыть основные типы нервной систем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НЕРВНАЯ СИСТЕМА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это совокупность структур в организме животных и человека, объединяющая деятельность всех органов и систем и обеспечивающая функционирование организма как единого целого в его постоянном взаимодействии с внешней средо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СТРОЕНИЕ НЕЙР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ФУНКЦИИ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лучение, хранение и переработка информации из внешней и внутренн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егуляция и координация деятельности всех органов и органных сист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В нервной системе выделяю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Центральную нервную систему (головной и спинной мозг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ериферическую нервную систему (нервы, ганглии, нервные окончан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положен в полости чере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стоит из 5 отделов: продолговатый мозг, мозжечок, средний мозг, промежуточный мозг и кора больших полушар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Файл:Human brain NIH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00600"/>
            <a:ext cx="2470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28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676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Функции головного мозг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ый центр жизненноважных рефлек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еспечивает согласованность движ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гулирует обмен веществ и постоянство внутренней сре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ролирует работу всех орга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9:36:45Z</dcterms:created>
  <dc:creator>user</dc:creator>
  <dc:description/>
  <dc:language>en-US</dc:language>
  <cp:lastModifiedBy>777</cp:lastModifiedBy>
  <dcterms:modified xsi:type="dcterms:W3CDTF">2011-03-16T14:55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